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wmf" ContentType="image/x-wmf"/>
  <Override PartName="/ppt/media/image12.wmf" ContentType="image/x-wmf"/>
  <Override PartName="/ppt/media/image11.wmf" ContentType="image/x-wmf"/>
  <Override PartName="/ppt/media/CHIMES.WAV" ContentType="audio/x-wav"/>
  <Override PartName="/ppt/media/image6.wmf" ContentType="image/x-wmf"/>
  <Override PartName="/ppt/media/zipby102.wav" ContentType="audio/x-wav"/>
  <Override PartName="/ppt/media/image7.wmf" ContentType="image/x-wmf"/>
  <Override PartName="/ppt/media/caralarmoff.wav" ContentType="audio/x-wav"/>
  <Override PartName="/ppt/media/byipee04.wav" ContentType="audio/x-wav"/>
  <Override PartName="/ppt/media/image1.wmf" ContentType="image/x-wmf"/>
  <Override PartName="/ppt/media/lionroar2.wav" ContentType="audio/x-wav"/>
  <Override PartName="/ppt/media/image2.wmf" ContentType="image/x-wmf"/>
  <Override PartName="/ppt/media/image3.wmf" ContentType="image/x-wmf"/>
  <Override PartName="/ppt/media/bbeeps04.wav" ContentType="audio/x-wav"/>
  <Override PartName="/ppt/media/image4.wmf" ContentType="image/x-wmf"/>
  <Override PartName="/ppt/media/zapbig0g.wav" ContentType="audio/x-wav"/>
  <Override PartName="/ppt/media/image5.wmf" ContentType="image/x-wmf"/>
  <Override PartName="/ppt/media/hzipup01.wav" ContentType="audio/x-wav"/>
  <Override PartName="/ppt/media/GUNSHOT.WAV" ContentType="audio/x-wav"/>
  <Override PartName="/ppt/media/highchime.wav" ContentType="audio/x-wav"/>
  <Override PartName="/ppt/media/WHOOSH.WAV" ContentType="audio/x-wav"/>
  <Override PartName="/ppt/media/jetflyby2.wav" ContentType="audio/x-wav"/>
  <Override PartName="/ppt/media/image10.wmf" ContentType="image/x-wmf"/>
  <Override PartName="/ppt/media/image14.gif" ContentType="image/gif"/>
  <Override PartName="/ppt/media/oldcarhorn.wav" ContentType="audio/x-wav"/>
  <Override PartName="/ppt/media/image15.png" ContentType="image/png"/>
  <Override PartName="/ppt/media/fastsnaps.wav" ContentType="audio/x-wav"/>
  <Override PartName="/ppt/media/fastcar.wav" ContentType="audio/x-wav"/>
  <Override PartName="/ppt/media/partyhorn.wav" ContentType="audio/x-wav"/>
  <Override PartName="/ppt/media/image9.wmf" ContentType="image/x-wmf"/>
  <Override PartName="/ppt/media/image8.wmf" ContentType="image/x-wmf"/>
  <Override PartName="/ppt/media/bserie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5FE-3825-4EE0-9518-416B90C9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5E1-8F1B-4C74-88F0-9BB9B99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E25-9B3B-4E8E-94D3-B7C7FBA5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FC7-2826-40FB-81A3-ED824169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0C0-8469-44E0-8405-EF6A3C54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F5B-7157-4531-B11F-E925ACF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C41-D386-453D-9DA4-B7050FEF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D9E-9137-4248-B0DF-8D721CC8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358-7FB6-45FB-A191-4DB7BF8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DA2-DF6B-4FFE-927F-7343B6C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084-FA23-428C-9321-7619369A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DCB-C887-40F1-AA02-8696F19A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AEA6-6F38-45BD-A5EB-4452202A9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CHIMES.WAV"/><Relationship Id="rId6" Type="http://schemas.openxmlformats.org/officeDocument/2006/relationships/audio" Target="../media/zipby102.wav"/><Relationship Id="rId7" Type="http://schemas.openxmlformats.org/officeDocument/2006/relationships/audio" Target="../media/lionroar2.wav"/><Relationship Id="rId8" Type="http://schemas.openxmlformats.org/officeDocument/2006/relationships/audio" Target="../media/bbeeps04.wav"/><Relationship Id="rId9" Type="http://schemas.openxmlformats.org/officeDocument/2006/relationships/audio" Target="../media/lionroar2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bbeeps04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oldcarhorn.wav"/><Relationship Id="rId16" Type="http://schemas.openxmlformats.org/officeDocument/2006/relationships/audio" Target="../media/fastsnaps.wav"/><Relationship Id="rId17" Type="http://schemas.openxmlformats.org/officeDocument/2006/relationships/audio" Target="../media/oldcarhorn.wav"/><Relationship Id="rId18" Type="http://schemas.openxmlformats.org/officeDocument/2006/relationships/audio" Target="../media/oldcarhorn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oldcarhorn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oldcarhorn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hzipup01.wav"/><Relationship Id="rId8" Type="http://schemas.openxmlformats.org/officeDocument/2006/relationships/audio" Target="../media/zipby102.wav"/><Relationship Id="rId9" Type="http://schemas.openxmlformats.org/officeDocument/2006/relationships/audio" Target="../media/jetflyby2.wav"/><Relationship Id="rId10" Type="http://schemas.openxmlformats.org/officeDocument/2006/relationships/audio" Target="../media/bbeeps04.wav"/><Relationship Id="rId11" Type="http://schemas.openxmlformats.org/officeDocument/2006/relationships/audio" Target="../media/fastcar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caralarmoff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bbeeps04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partyhorn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oldcarhorn.wav"/><Relationship Id="rId19" Type="http://schemas.openxmlformats.org/officeDocument/2006/relationships/audio" Target="../media/oldcarhorn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zipby102.wav"/><Relationship Id="rId23" Type="http://schemas.openxmlformats.org/officeDocument/2006/relationships/audio" Target="../media/oldcarhorn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oldcarhorn.wav"/><Relationship Id="rId27" Type="http://schemas.openxmlformats.org/officeDocument/2006/relationships/audio" Target="../media/zipby102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beeps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yipee04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by1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audio" Target="../media/zipby102.wav"/><Relationship Id="rId28" Type="http://schemas.openxmlformats.org/officeDocument/2006/relationships/audio" Target="../media/bserie06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676160"/>
            <a:ext cx="3048120" cy="2867760"/>
            <a:chOff x="457200" y="1676160"/>
            <a:chExt cx="3048120" cy="2867760"/>
          </a:xfrm>
        </p:grpSpPr>
        <p:sp>
          <p:nvSpPr>
            <p:cNvPr id="44" name=""/>
            <p:cNvSpPr/>
            <p:nvPr/>
          </p:nvSpPr>
          <p:spPr>
            <a:xfrm>
              <a:off x="457200" y="39625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1676160"/>
              <a:ext cx="1828800" cy="2210040"/>
              <a:chOff x="990720" y="1676160"/>
              <a:chExt cx="1828800" cy="2210040"/>
            </a:xfrm>
          </p:grpSpPr>
          <p:sp>
            <p:nvSpPr>
              <p:cNvPr id="46" name=""/>
              <p:cNvSpPr/>
              <p:nvPr/>
            </p:nvSpPr>
            <p:spPr>
              <a:xfrm>
                <a:off x="2362320" y="16765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90720" y="32767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90720" y="16765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10800000">
                <a:off x="990720" y="16761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47920" y="16765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19810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47920" y="22860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3505320" y="1676520"/>
            <a:ext cx="464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Prism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0720" y="2286000"/>
            <a:ext cx="5715000" cy="1600200"/>
            <a:chOff x="990720" y="2286000"/>
            <a:chExt cx="5715000" cy="1600200"/>
          </a:xfrm>
        </p:grpSpPr>
        <p:sp>
          <p:nvSpPr>
            <p:cNvPr id="55" name=""/>
            <p:cNvSpPr/>
            <p:nvPr/>
          </p:nvSpPr>
          <p:spPr>
            <a:xfrm>
              <a:off x="990720" y="3276720"/>
              <a:ext cx="1828800" cy="609480"/>
            </a:xfrm>
            <a:custGeom>
              <a:avLst/>
              <a:gdLst/>
              <a:ahLst/>
              <a:rect l="l" t="t" r="r" b="b"/>
              <a:pathLst>
                <a:path w="1152" h="384">
                  <a:moveTo>
                    <a:pt x="0" y="192"/>
                  </a:moveTo>
                  <a:lnTo>
                    <a:pt x="288" y="0"/>
                  </a:lnTo>
                  <a:lnTo>
                    <a:pt x="864" y="0"/>
                  </a:lnTo>
                  <a:lnTo>
                    <a:pt x="1152" y="192"/>
                  </a:lnTo>
                  <a:lnTo>
                    <a:pt x="864" y="384"/>
                  </a:lnTo>
                  <a:lnTo>
                    <a:pt x="288" y="38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6720" y="2286000"/>
              <a:ext cx="3429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" name=""/>
          <p:cNvGraphicFramePr/>
          <p:nvPr/>
        </p:nvGraphicFramePr>
        <p:xfrm>
          <a:off x="6400800" y="228600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2819520" y="1980720"/>
            <a:ext cx="5638680" cy="1600200"/>
            <a:chOff x="2819520" y="1980720"/>
            <a:chExt cx="5638680" cy="1600200"/>
          </a:xfrm>
        </p:grpSpPr>
        <p:sp>
          <p:nvSpPr>
            <p:cNvPr id="60" name=""/>
            <p:cNvSpPr/>
            <p:nvPr/>
          </p:nvSpPr>
          <p:spPr>
            <a:xfrm>
              <a:off x="6553080" y="2286000"/>
              <a:ext cx="1905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819520" y="1980720"/>
              <a:ext cx="0" cy="1600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9520" y="2514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98920" y="32479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1960560"/>
            <a:ext cx="1857600" cy="303372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43200" y="2322360"/>
            <a:ext cx="91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85960" y="1913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37320" y="2604960"/>
            <a:ext cx="91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148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78800" y="4357800"/>
            <a:ext cx="136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70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,341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4397400"/>
            <a:ext cx="1814400" cy="5810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500800" y="476280"/>
            <a:ext cx="3643200" cy="3643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19280"/>
            <a:ext cx="62420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Wood for a fireplace is often sold by the cord. A cord is 8 ft by 4 ft by 4 ft. How many cubic feet are in a cord of wood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76120" y="2498760"/>
            <a:ext cx="4884840" cy="358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65560" y="404820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229440" y="4915080"/>
                <a:ext cx="2914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6615000" y="4957920"/>
            <a:ext cx="532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2800" y="492912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91600" y="494352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5738760"/>
            <a:ext cx="280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128  ft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137200" y="4991040"/>
                <a:ext cx="14349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pris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920" y="1828800"/>
            <a:ext cx="4343400" cy="3461760"/>
            <a:chOff x="304920" y="1828800"/>
            <a:chExt cx="4343400" cy="3461760"/>
          </a:xfrm>
        </p:grpSpPr>
        <p:sp>
          <p:nvSpPr>
            <p:cNvPr id="67" name=""/>
            <p:cNvSpPr/>
            <p:nvPr/>
          </p:nvSpPr>
          <p:spPr>
            <a:xfrm>
              <a:off x="1219320" y="4038480"/>
              <a:ext cx="3429000" cy="838440"/>
            </a:xfrm>
            <a:custGeom>
              <a:avLst/>
              <a:gdLst/>
              <a:ahLst/>
              <a:rect l="l" t="t" r="r" b="b"/>
              <a:pathLst>
                <a:path w="2160" h="528">
                  <a:moveTo>
                    <a:pt x="0" y="528"/>
                  </a:moveTo>
                  <a:lnTo>
                    <a:pt x="1488" y="0"/>
                  </a:lnTo>
                  <a:lnTo>
                    <a:pt x="2160" y="0"/>
                  </a:lnTo>
                  <a:lnTo>
                    <a:pt x="672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2666880"/>
              <a:ext cx="1066680" cy="221004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1828800"/>
              <a:ext cx="1067040" cy="220968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1828800"/>
              <a:ext cx="2361960" cy="3048120"/>
            </a:xfrm>
            <a:custGeom>
              <a:avLst/>
              <a:gdLst/>
              <a:ahLst/>
              <a:rect l="l" t="t" r="r" b="b"/>
              <a:pathLst>
                <a:path w="1488" h="1920">
                  <a:moveTo>
                    <a:pt x="0" y="528"/>
                  </a:moveTo>
                  <a:lnTo>
                    <a:pt x="1488" y="0"/>
                  </a:lnTo>
                  <a:lnTo>
                    <a:pt x="1488" y="1392"/>
                  </a:lnTo>
                  <a:lnTo>
                    <a:pt x="0" y="192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1828800"/>
              <a:ext cx="3429000" cy="3048120"/>
            </a:xfrm>
            <a:custGeom>
              <a:avLst/>
              <a:gdLst/>
              <a:ahLst/>
              <a:rect l="l" t="t" r="r" b="b"/>
              <a:pathLst>
                <a:path w="2160" h="1920">
                  <a:moveTo>
                    <a:pt x="0" y="528"/>
                  </a:moveTo>
                  <a:lnTo>
                    <a:pt x="672" y="1920"/>
                  </a:lnTo>
                  <a:lnTo>
                    <a:pt x="2160" y="1392"/>
                  </a:lnTo>
                  <a:lnTo>
                    <a:pt x="1488" y="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981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342900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4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4800600"/>
              <a:ext cx="121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400000">
              <a:off x="3048120" y="434304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0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5638680" y="1981080"/>
          <a:ext cx="21560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1560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0880" y="5181480"/>
          <a:ext cx="192276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81480"/>
                    <a:ext cx="1922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410080" y="2593800"/>
          <a:ext cx="2743200" cy="13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59380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0" y="3733920"/>
          <a:ext cx="437184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3392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172200" y="411480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0" y="5029200"/>
          <a:ext cx="337968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02920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715000" y="50292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02920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2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95680" y="6019920"/>
          <a:ext cx="11430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6019920"/>
                    <a:ext cx="11430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715000" y="594360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1260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1752480"/>
            <a:ext cx="3200400" cy="18288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464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Cylinder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69040" y="3124080"/>
            <a:ext cx="3503160" cy="1907280"/>
            <a:chOff x="2669040" y="3124080"/>
            <a:chExt cx="3503160" cy="1907280"/>
          </a:xfrm>
        </p:grpSpPr>
        <p:sp>
          <p:nvSpPr>
            <p:cNvPr id="99" name=""/>
            <p:cNvSpPr/>
            <p:nvPr/>
          </p:nvSpPr>
          <p:spPr>
            <a:xfrm>
              <a:off x="2971800" y="3124080"/>
              <a:ext cx="320040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9040" y="4419720"/>
              <a:ext cx="321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5715000" y="441972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1972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6172200" y="1981080"/>
            <a:ext cx="1430280" cy="3050280"/>
            <a:chOff x="6172200" y="1981080"/>
            <a:chExt cx="1430280" cy="3050280"/>
          </a:xfrm>
        </p:grpSpPr>
        <p:sp>
          <p:nvSpPr>
            <p:cNvPr id="104" name=""/>
            <p:cNvSpPr/>
            <p:nvPr/>
          </p:nvSpPr>
          <p:spPr>
            <a:xfrm>
              <a:off x="6175080" y="4419720"/>
              <a:ext cx="142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362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1981080"/>
              <a:ext cx="0" cy="1371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4876920" y="4876920"/>
          <a:ext cx="1218960" cy="87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876920"/>
                    <a:ext cx="1218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4952880"/>
          <a:ext cx="5479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952880"/>
                    <a:ext cx="5479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cylin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1905120"/>
            <a:ext cx="4267080" cy="3657600"/>
            <a:chOff x="228600" y="1905120"/>
            <a:chExt cx="4267080" cy="3657600"/>
          </a:xfrm>
        </p:grpSpPr>
        <p:sp>
          <p:nvSpPr>
            <p:cNvPr id="115" name=""/>
            <p:cNvSpPr/>
            <p:nvPr/>
          </p:nvSpPr>
          <p:spPr>
            <a:xfrm>
              <a:off x="685800" y="1905120"/>
              <a:ext cx="2590920" cy="3657600"/>
            </a:xfrm>
            <a:prstGeom prst="can">
              <a:avLst>
                <a:gd name="adj" fmla="val 25000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648320"/>
              <a:ext cx="259092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510552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98108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6483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5053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1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4800600" y="1905120"/>
          <a:ext cx="276372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27637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79720" y="2666880"/>
          <a:ext cx="526428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2666880"/>
                    <a:ext cx="52642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41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24280" y="373392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373392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2578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322880" y="4572000"/>
          <a:ext cx="432252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2880" y="4572000"/>
                    <a:ext cx="43225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79132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7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267080" y="5638680"/>
          <a:ext cx="121932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5638680"/>
                    <a:ext cx="12193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486400" y="5562720"/>
            <a:ext cx="3124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863.5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4191120"/>
                <a:ext cx="37958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5029200"/>
                <a:ext cx="3402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62520" y="5029200"/>
            <a:ext cx="5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502920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02920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58672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24  cubic uni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70320" y="510552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H="1">
            <a:off x="1600200" y="1905120"/>
            <a:ext cx="4038480" cy="1981080"/>
          </a:xfrm>
          <a:prstGeom prst="cube">
            <a:avLst>
              <a:gd name="adj" fmla="val 45740"/>
            </a:avLst>
          </a:prstGeom>
          <a:solidFill>
            <a:srgbClr val="ffcc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3526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8240" y="249696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81360" y="21844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2400" y="24811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9560" y="21844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4040" y="28162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6080" y="280980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5120" y="28177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582560" y="2423880"/>
            <a:ext cx="92880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359080" y="187956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35240" y="188928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54600" y="189720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700"/>
                            </p:stCondLst>
                            <p:childTnLst>
                              <p:par>
                                <p:cTn id="247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3440" y="1851120"/>
            <a:ext cx="193032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43200"/>
            <a:ext cx="2859120" cy="1582560"/>
          </a:xfrm>
          <a:custGeom>
            <a:avLst/>
            <a:gdLst/>
            <a:ahLst/>
            <a:rect l="l" t="t" r="r" b="b"/>
            <a:pathLst>
              <a:path w="1801" h="997">
                <a:moveTo>
                  <a:pt x="0" y="997"/>
                </a:moveTo>
                <a:lnTo>
                  <a:pt x="1179" y="393"/>
                </a:lnTo>
                <a:lnTo>
                  <a:pt x="1801" y="0"/>
                </a:lnTo>
                <a:lnTo>
                  <a:pt x="640" y="603"/>
                </a:lnTo>
                <a:lnTo>
                  <a:pt x="0" y="997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2816280"/>
            <a:ext cx="193068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2452680"/>
            <a:ext cx="3802320" cy="973080"/>
          </a:xfrm>
          <a:custGeom>
            <a:avLst/>
            <a:gdLst/>
            <a:ahLst/>
            <a:rect l="l" t="t" r="r" b="b"/>
            <a:pathLst>
              <a:path w="2386" h="613">
                <a:moveTo>
                  <a:pt x="0" y="613"/>
                </a:moveTo>
                <a:lnTo>
                  <a:pt x="1170" y="0"/>
                </a:lnTo>
                <a:lnTo>
                  <a:pt x="2386" y="0"/>
                </a:lnTo>
                <a:lnTo>
                  <a:pt x="1216" y="613"/>
                </a:lnTo>
                <a:lnTo>
                  <a:pt x="0" y="613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1360" y="1828800"/>
            <a:ext cx="2828880" cy="1596960"/>
          </a:xfrm>
          <a:custGeom>
            <a:avLst/>
            <a:gdLst/>
            <a:ahLst/>
            <a:rect l="l" t="t" r="r" b="b"/>
            <a:pathLst>
              <a:path w="1792" h="1006">
                <a:moveTo>
                  <a:pt x="0" y="603"/>
                </a:moveTo>
                <a:lnTo>
                  <a:pt x="1180" y="0"/>
                </a:lnTo>
                <a:lnTo>
                  <a:pt x="1792" y="393"/>
                </a:lnTo>
                <a:lnTo>
                  <a:pt x="631" y="1006"/>
                </a:lnTo>
                <a:lnTo>
                  <a:pt x="0" y="603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03640" y="2100240"/>
          <a:ext cx="274320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10024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65560" y="3240000"/>
          <a:ext cx="437184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324000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765760" y="362124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38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14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165560" y="4535640"/>
          <a:ext cx="337968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453564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5410080" y="45212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42120" y="452124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089240" y="5526000"/>
          <a:ext cx="114300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9240" y="5526000"/>
                    <a:ext cx="114300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308560" y="545004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4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268596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51200" y="270828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1240" y="28465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440" y="179856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2360" y="355752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4760" y="323064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229536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2600" y="1930320"/>
            <a:ext cx="3105000" cy="1668600"/>
          </a:xfrm>
          <a:prstGeom prst="cube">
            <a:avLst>
              <a:gd name="adj" fmla="val 24263"/>
            </a:avLst>
          </a:prstGeom>
          <a:solidFill>
            <a:srgbClr val="ccecff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7480" y="1930320"/>
            <a:ext cx="0" cy="12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987120" y="319248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6640" y="3192120"/>
            <a:ext cx="420840" cy="406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906640" y="384336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73680" y="4681440"/>
                <a:ext cx="3402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210200" y="4681440"/>
            <a:ext cx="822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1240" y="468144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4240" y="468144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1560" y="55198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480  cm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62360" y="475776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7040" y="285588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0040" y="1960560"/>
            <a:ext cx="1987560" cy="224964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0040" y="2235240"/>
            <a:ext cx="198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183996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8204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80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28 ft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rot="16200000">
            <a:off x="1170000" y="1501920"/>
            <a:ext cx="1550880" cy="306216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278460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6760" y="3740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3588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9304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9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03 cm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84520" y="2263680"/>
            <a:ext cx="798480" cy="15382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080" y="2249640"/>
            <a:ext cx="0" cy="15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23T15:02:56Z</dcterms:modified>
  <cp:revision>42</cp:revision>
  <dc:subject/>
  <dc:title>No Slide Title</dc:title>
</cp:coreProperties>
</file>